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813F-0B2E-4E10-B3B8-882C65FBD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EF9C-A4DE-4449-817F-157A6EF21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6B84-86BC-4414-898D-26A84A23D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4762-5FA2-438B-B436-CD7D0BDCF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87B6-E568-4F66-9115-FE39DD27B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7CC1-FDD9-45DA-809D-14121DD1E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728A-8E37-4CC5-B320-1F92744B8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5708-B57C-4EE7-9CAC-AB3C6F5BA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66F1-0E6F-4034-9D1C-AEB5A1014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BB93-0EFC-4AA2-AA28-85EC756E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10F2-6B9F-4CC3-8B68-33BC5D0F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D0D8-1CA0-4205-98AA-07D114C6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FC9F0-1037-449E-86F8-350AF30AE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21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981000"/>
            <a:ext cx="6400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лож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РАФИЧЕСКАЯ Ч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ХЕМЫ ВОДОСНАБ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ЕРЁЗОВСКОГО СЕЛЬСКОГО ПОС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АЛИЧСКОГО МУНИЦИПАЛЬНОГО РАЙ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СТРОМСКОЙ ОБ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7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6429240" cy="4198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44" name="Text Box 3"/>
          <p:cNvSpPr/>
          <p:nvPr/>
        </p:nvSpPr>
        <p:spPr>
          <a:xfrm>
            <a:off x="-1440" y="1440"/>
            <a:ext cx="9124920" cy="97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720" rIns="63720" tIns="31680" bIns="316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хема водоснабжения с. Березовец Берёзовского сельского пос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6"/>
          <p:cNvSpPr/>
          <p:nvPr/>
        </p:nvSpPr>
        <p:spPr>
          <a:xfrm>
            <a:off x="0" y="404640"/>
            <a:ext cx="9107640" cy="71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27000" bIns="27000" anchor="ctr">
            <a:noAutofit/>
          </a:bodyPr>
          <a:p>
            <a:pPr algn="ctr"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2479680" y="1336680"/>
            <a:ext cx="1225440" cy="434880"/>
          </a:xfrm>
          <a:prstGeom prst="wedgeEllipseCallout">
            <a:avLst>
              <a:gd name="adj1" fmla="val 129648"/>
              <a:gd name="adj2" fmla="val 473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Водонапорные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скважины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8"/>
          <p:cNvSpPr/>
          <p:nvPr/>
        </p:nvSpPr>
        <p:spPr>
          <a:xfrm>
            <a:off x="6227640" y="907920"/>
            <a:ext cx="897120" cy="435240"/>
          </a:xfrm>
          <a:prstGeom prst="wedgeEllipseCallout">
            <a:avLst>
              <a:gd name="adj1" fmla="val -36504"/>
              <a:gd name="adj2" fmla="val 12765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Маст. ЗАО «Родина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9"/>
          <p:cNvSpPr/>
          <p:nvPr/>
        </p:nvSpPr>
        <p:spPr>
          <a:xfrm>
            <a:off x="6613560" y="1387440"/>
            <a:ext cx="896760" cy="436680"/>
          </a:xfrm>
          <a:prstGeom prst="wedgeEllipseCallout">
            <a:avLst>
              <a:gd name="adj1" fmla="val -90930"/>
              <a:gd name="adj2" fmla="val 86375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ООО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«Бирюса»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0"/>
          <p:cNvSpPr/>
          <p:nvPr/>
        </p:nvSpPr>
        <p:spPr>
          <a:xfrm>
            <a:off x="6816600" y="1847880"/>
            <a:ext cx="898560" cy="434880"/>
          </a:xfrm>
          <a:prstGeom prst="wedgeEllipseCallout">
            <a:avLst>
              <a:gd name="adj1" fmla="val -108574"/>
              <a:gd name="adj2" fmla="val 3506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Пожарны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участок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8"/>
          <p:cNvSpPr/>
          <p:nvPr/>
        </p:nvSpPr>
        <p:spPr>
          <a:xfrm>
            <a:off x="2327400" y="2357280"/>
            <a:ext cx="652320" cy="244800"/>
          </a:xfrm>
          <a:prstGeom prst="wedgeEllipseCallout">
            <a:avLst>
              <a:gd name="adj1" fmla="val 128587"/>
              <a:gd name="adj2" fmla="val 45175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школ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3551400" y="3684600"/>
            <a:ext cx="183672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Calibri"/>
              </a:rPr>
              <a:t>Ул. Бориса Лебедев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5848200" y="2408400"/>
            <a:ext cx="203400" cy="117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Советска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2"/>
          <p:cNvSpPr/>
          <p:nvPr/>
        </p:nvSpPr>
        <p:spPr>
          <a:xfrm>
            <a:off x="3908520" y="2612880"/>
            <a:ext cx="15372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Молодёжна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 rot="20909400">
            <a:off x="4481280" y="2012760"/>
            <a:ext cx="11080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Ул. Нова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30440" y="3938760"/>
            <a:ext cx="20484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Дальня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4214880" y="4092480"/>
            <a:ext cx="15228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Горна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5848200" y="3938760"/>
            <a:ext cx="2541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заречна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9"/>
          <p:cNvSpPr/>
          <p:nvPr/>
        </p:nvSpPr>
        <p:spPr>
          <a:xfrm>
            <a:off x="1562040" y="3378240"/>
            <a:ext cx="816120" cy="458640"/>
          </a:xfrm>
          <a:prstGeom prst="rect">
            <a:avLst/>
          </a:prstGeom>
          <a:noFill/>
          <a:ln w="255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30"/>
          <p:cNvSpPr/>
          <p:nvPr/>
        </p:nvSpPr>
        <p:spPr>
          <a:xfrm>
            <a:off x="1509840" y="3938760"/>
            <a:ext cx="612720" cy="460080"/>
          </a:xfrm>
          <a:prstGeom prst="rect">
            <a:avLst/>
          </a:prstGeom>
          <a:noFill/>
          <a:ln w="255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31"/>
          <p:cNvSpPr/>
          <p:nvPr/>
        </p:nvSpPr>
        <p:spPr>
          <a:xfrm>
            <a:off x="2633760" y="3122640"/>
            <a:ext cx="152280" cy="204840"/>
          </a:xfrm>
          <a:prstGeom prst="rect">
            <a:avLst/>
          </a:prstGeom>
          <a:noFill/>
          <a:ln w="255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32"/>
          <p:cNvSpPr/>
          <p:nvPr/>
        </p:nvSpPr>
        <p:spPr>
          <a:xfrm>
            <a:off x="2581200" y="3378240"/>
            <a:ext cx="255600" cy="203040"/>
          </a:xfrm>
          <a:prstGeom prst="rect">
            <a:avLst/>
          </a:prstGeom>
          <a:noFill/>
          <a:ln w="255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33"/>
          <p:cNvSpPr/>
          <p:nvPr/>
        </p:nvSpPr>
        <p:spPr>
          <a:xfrm>
            <a:off x="2887560" y="2970360"/>
            <a:ext cx="204840" cy="509400"/>
          </a:xfrm>
          <a:prstGeom prst="rect">
            <a:avLst/>
          </a:prstGeom>
          <a:noFill/>
          <a:ln w="255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34"/>
          <p:cNvSpPr/>
          <p:nvPr/>
        </p:nvSpPr>
        <p:spPr>
          <a:xfrm>
            <a:off x="3143160" y="2459160"/>
            <a:ext cx="255600" cy="663480"/>
          </a:xfrm>
          <a:prstGeom prst="rect">
            <a:avLst/>
          </a:prstGeom>
          <a:noFill/>
          <a:ln w="255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35"/>
          <p:cNvSpPr/>
          <p:nvPr/>
        </p:nvSpPr>
        <p:spPr>
          <a:xfrm>
            <a:off x="2327400" y="3938760"/>
            <a:ext cx="152280" cy="1123920"/>
          </a:xfrm>
          <a:prstGeom prst="rect">
            <a:avLst/>
          </a:prstGeom>
          <a:noFill/>
          <a:ln w="255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36"/>
          <p:cNvSpPr/>
          <p:nvPr/>
        </p:nvSpPr>
        <p:spPr>
          <a:xfrm>
            <a:off x="2735280" y="3990960"/>
            <a:ext cx="1378080" cy="203040"/>
          </a:xfrm>
          <a:prstGeom prst="rect">
            <a:avLst/>
          </a:prstGeom>
          <a:noFill/>
          <a:ln w="255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37"/>
          <p:cNvSpPr/>
          <p:nvPr/>
        </p:nvSpPr>
        <p:spPr>
          <a:xfrm>
            <a:off x="3652920" y="2714760"/>
            <a:ext cx="204840" cy="1020600"/>
          </a:xfrm>
          <a:prstGeom prst="rect">
            <a:avLst/>
          </a:prstGeom>
          <a:noFill/>
          <a:ln w="255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38"/>
          <p:cNvSpPr/>
          <p:nvPr/>
        </p:nvSpPr>
        <p:spPr>
          <a:xfrm>
            <a:off x="2633760" y="3581280"/>
            <a:ext cx="509400" cy="154080"/>
          </a:xfrm>
          <a:prstGeom prst="rect">
            <a:avLst/>
          </a:prstGeom>
          <a:noFill/>
          <a:ln w="255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39"/>
          <p:cNvSpPr/>
          <p:nvPr/>
        </p:nvSpPr>
        <p:spPr>
          <a:xfrm>
            <a:off x="2735280" y="4245120"/>
            <a:ext cx="357120" cy="102960"/>
          </a:xfrm>
          <a:prstGeom prst="rect">
            <a:avLst/>
          </a:prstGeom>
          <a:noFill/>
          <a:ln w="255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40"/>
          <p:cNvSpPr/>
          <p:nvPr/>
        </p:nvSpPr>
        <p:spPr>
          <a:xfrm>
            <a:off x="2735280" y="4348080"/>
            <a:ext cx="152280" cy="152640"/>
          </a:xfrm>
          <a:prstGeom prst="rect">
            <a:avLst/>
          </a:prstGeom>
          <a:noFill/>
          <a:ln w="255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41"/>
          <p:cNvSpPr/>
          <p:nvPr/>
        </p:nvSpPr>
        <p:spPr>
          <a:xfrm>
            <a:off x="2735280" y="4602240"/>
            <a:ext cx="203040" cy="511200"/>
          </a:xfrm>
          <a:prstGeom prst="rect">
            <a:avLst/>
          </a:prstGeom>
          <a:noFill/>
          <a:ln w="255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42"/>
          <p:cNvSpPr/>
          <p:nvPr/>
        </p:nvSpPr>
        <p:spPr>
          <a:xfrm>
            <a:off x="3857760" y="4143240"/>
            <a:ext cx="255600" cy="866880"/>
          </a:xfrm>
          <a:prstGeom prst="rect">
            <a:avLst/>
          </a:prstGeom>
          <a:noFill/>
          <a:ln w="255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43"/>
          <p:cNvSpPr/>
          <p:nvPr/>
        </p:nvSpPr>
        <p:spPr>
          <a:xfrm>
            <a:off x="4062240" y="2459160"/>
            <a:ext cx="203400" cy="1225440"/>
          </a:xfrm>
          <a:prstGeom prst="rect">
            <a:avLst/>
          </a:prstGeom>
          <a:noFill/>
          <a:ln w="255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44"/>
          <p:cNvSpPr/>
          <p:nvPr/>
        </p:nvSpPr>
        <p:spPr>
          <a:xfrm>
            <a:off x="4367160" y="3887640"/>
            <a:ext cx="1123920" cy="204840"/>
          </a:xfrm>
          <a:prstGeom prst="rect">
            <a:avLst/>
          </a:prstGeom>
          <a:noFill/>
          <a:ln w="255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45"/>
          <p:cNvSpPr/>
          <p:nvPr/>
        </p:nvSpPr>
        <p:spPr>
          <a:xfrm>
            <a:off x="3244680" y="2000160"/>
            <a:ext cx="765360" cy="306360"/>
          </a:xfrm>
          <a:prstGeom prst="rect">
            <a:avLst/>
          </a:prstGeom>
          <a:noFill/>
          <a:ln w="255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46"/>
          <p:cNvSpPr/>
          <p:nvPr/>
        </p:nvSpPr>
        <p:spPr>
          <a:xfrm>
            <a:off x="4316400" y="4041720"/>
            <a:ext cx="306360" cy="1325520"/>
          </a:xfrm>
          <a:prstGeom prst="rect">
            <a:avLst/>
          </a:prstGeom>
          <a:noFill/>
          <a:ln w="255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47"/>
          <p:cNvSpPr/>
          <p:nvPr/>
        </p:nvSpPr>
        <p:spPr>
          <a:xfrm>
            <a:off x="5438880" y="2255760"/>
            <a:ext cx="357120" cy="1325520"/>
          </a:xfrm>
          <a:prstGeom prst="rect">
            <a:avLst/>
          </a:prstGeom>
          <a:noFill/>
          <a:ln w="255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48"/>
          <p:cNvSpPr/>
          <p:nvPr/>
        </p:nvSpPr>
        <p:spPr>
          <a:xfrm>
            <a:off x="5491080" y="2050920"/>
            <a:ext cx="254160" cy="154080"/>
          </a:xfrm>
          <a:prstGeom prst="rect">
            <a:avLst/>
          </a:prstGeom>
          <a:noFill/>
          <a:ln w="25560">
            <a:solidFill>
              <a:srgbClr val="00b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49"/>
          <p:cNvSpPr/>
          <p:nvPr/>
        </p:nvSpPr>
        <p:spPr>
          <a:xfrm>
            <a:off x="5438880" y="4041720"/>
            <a:ext cx="357120" cy="1224000"/>
          </a:xfrm>
          <a:prstGeom prst="rect">
            <a:avLst/>
          </a:prstGeom>
          <a:noFill/>
          <a:ln w="255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50"/>
          <p:cNvSpPr/>
          <p:nvPr/>
        </p:nvSpPr>
        <p:spPr>
          <a:xfrm>
            <a:off x="6102360" y="3836880"/>
            <a:ext cx="306360" cy="1530360"/>
          </a:xfrm>
          <a:prstGeom prst="rect">
            <a:avLst/>
          </a:prstGeom>
          <a:noFill/>
          <a:ln w="255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51"/>
          <p:cNvSpPr/>
          <p:nvPr/>
        </p:nvSpPr>
        <p:spPr>
          <a:xfrm>
            <a:off x="6153120" y="2612880"/>
            <a:ext cx="204840" cy="816120"/>
          </a:xfrm>
          <a:prstGeom prst="rect">
            <a:avLst/>
          </a:prstGeom>
          <a:noFill/>
          <a:ln w="255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2484360" y="1341360"/>
            <a:ext cx="1225800" cy="434880"/>
          </a:xfrm>
          <a:prstGeom prst="wedgeEllipseCallout">
            <a:avLst>
              <a:gd name="adj1" fmla="val 129648"/>
              <a:gd name="adj2" fmla="val 473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Водонапорные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скважины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148360" y="1628640"/>
            <a:ext cx="9363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84720" y="1628640"/>
            <a:ext cx="0" cy="432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84720" y="1844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48360" y="1628640"/>
            <a:ext cx="503280" cy="5050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628640"/>
            <a:ext cx="1443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924000" y="1628640"/>
            <a:ext cx="934920" cy="9367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24360" y="2565360"/>
            <a:ext cx="0" cy="9349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634920" y="3500280"/>
            <a:ext cx="289080" cy="1447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3645000"/>
            <a:ext cx="1429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24360" y="3500280"/>
            <a:ext cx="15843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4211280" y="3500280"/>
            <a:ext cx="73080" cy="10083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4066920" y="4221000"/>
            <a:ext cx="1443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4210920" y="443628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852640"/>
            <a:ext cx="17272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3563640" y="2565360"/>
            <a:ext cx="360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637000"/>
            <a:ext cx="0" cy="100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2708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64000" y="2924280"/>
            <a:ext cx="2160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64000" y="3141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64000" y="3357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3276720" y="2492280"/>
            <a:ext cx="287280" cy="1447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348000" y="2637000"/>
            <a:ext cx="2160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3348000" y="2923920"/>
            <a:ext cx="216000" cy="730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64000" y="3645000"/>
            <a:ext cx="0" cy="2887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2556000" y="3933720"/>
            <a:ext cx="10080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56000" y="3933720"/>
            <a:ext cx="0" cy="9352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486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484000" y="4869000"/>
            <a:ext cx="7164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411280" y="4365720"/>
            <a:ext cx="1447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411280" y="4653000"/>
            <a:ext cx="1447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556000" y="2997000"/>
            <a:ext cx="0" cy="9363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56000" y="3429000"/>
            <a:ext cx="712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56000" y="3141720"/>
            <a:ext cx="1443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987640" y="4005360"/>
            <a:ext cx="0" cy="9363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916360" y="4941720"/>
            <a:ext cx="71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842920" y="4653000"/>
            <a:ext cx="144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987640" y="4365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842920" y="4365720"/>
            <a:ext cx="144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619280" y="3789360"/>
            <a:ext cx="9367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2050920" y="3715920"/>
            <a:ext cx="0" cy="730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1908000" y="3715920"/>
            <a:ext cx="0" cy="730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24360" y="2565360"/>
            <a:ext cx="21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24360" y="3284640"/>
            <a:ext cx="21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779640" y="2708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3779640" y="2637000"/>
            <a:ext cx="144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780000" y="2924280"/>
            <a:ext cx="71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51280" y="3068640"/>
            <a:ext cx="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3779640" y="3500280"/>
            <a:ext cx="144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3708360" y="3357720"/>
            <a:ext cx="21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3779640" y="3213000"/>
            <a:ext cx="144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779640" y="3068640"/>
            <a:ext cx="144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140360" y="4005360"/>
            <a:ext cx="1443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3"/>
          <p:cNvSpPr/>
          <p:nvPr/>
        </p:nvSpPr>
        <p:spPr>
          <a:xfrm>
            <a:off x="0" y="0"/>
            <a:ext cx="9124920" cy="97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720" rIns="63720" tIns="31680" bIns="316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хема водоснабж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. Рожнов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рёзовского сельского пос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6"/>
          <p:cNvSpPr/>
          <p:nvPr/>
        </p:nvSpPr>
        <p:spPr>
          <a:xfrm flipV="1">
            <a:off x="-181080" y="-720"/>
            <a:ext cx="9107640" cy="73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28440" bIns="28440" anchor="ctr" rot="10800000">
            <a:noAutofit/>
          </a:bodyPr>
          <a:p>
            <a:pPr algn="ctr"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дер"/>
          <p:cNvPicPr/>
          <p:nvPr/>
        </p:nvPicPr>
        <p:blipFill>
          <a:blip r:embed="rId1"/>
          <a:stretch/>
        </p:blipFill>
        <p:spPr>
          <a:xfrm>
            <a:off x="2530440" y="2050920"/>
            <a:ext cx="6432480" cy="417384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6"/>
          <p:cNvSpPr/>
          <p:nvPr/>
        </p:nvSpPr>
        <p:spPr>
          <a:xfrm>
            <a:off x="4673520" y="2357280"/>
            <a:ext cx="408240" cy="2244960"/>
          </a:xfrm>
          <a:prstGeom prst="rect">
            <a:avLst/>
          </a:prstGeom>
          <a:noFill/>
          <a:ln w="255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7"/>
          <p:cNvSpPr/>
          <p:nvPr/>
        </p:nvSpPr>
        <p:spPr>
          <a:xfrm>
            <a:off x="4214880" y="3122640"/>
            <a:ext cx="255600" cy="1479600"/>
          </a:xfrm>
          <a:prstGeom prst="rect">
            <a:avLst/>
          </a:prstGeom>
          <a:noFill/>
          <a:ln w="255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2627280" y="3429000"/>
            <a:ext cx="897120" cy="436680"/>
          </a:xfrm>
          <a:prstGeom prst="wedgeEllipseCallout">
            <a:avLst>
              <a:gd name="adj1" fmla="val -69648"/>
              <a:gd name="adj2" fmla="val -38365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ООО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«Бирюса»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2484360" y="1989000"/>
            <a:ext cx="1225800" cy="435240"/>
          </a:xfrm>
          <a:prstGeom prst="wedgeEllipseCallout">
            <a:avLst>
              <a:gd name="adj1" fmla="val -45208"/>
              <a:gd name="adj2" fmla="val -101458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Водонапорные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скважины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356000" y="3933720"/>
            <a:ext cx="2160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572000" y="2492280"/>
            <a:ext cx="0" cy="14414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0" y="2492280"/>
            <a:ext cx="2160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3429000"/>
            <a:ext cx="144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0" y="3789360"/>
            <a:ext cx="2160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43280" y="3429000"/>
            <a:ext cx="1447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35280" y="2349360"/>
            <a:ext cx="720720" cy="15843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84720" y="3860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3933720"/>
            <a:ext cx="216000" cy="5749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3933720"/>
            <a:ext cx="216000" cy="216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3"/>
          <p:cNvSpPr/>
          <p:nvPr/>
        </p:nvSpPr>
        <p:spPr>
          <a:xfrm>
            <a:off x="-1440" y="1440"/>
            <a:ext cx="9124920" cy="97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720" rIns="63720" tIns="31680" bIns="316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хема водоснабж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. Матюков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рёзовского сельского пос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6"/>
          <p:cNvSpPr/>
          <p:nvPr/>
        </p:nvSpPr>
        <p:spPr>
          <a:xfrm flipV="1">
            <a:off x="0" y="906840"/>
            <a:ext cx="9107640" cy="71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27000" bIns="27000" anchor="ctr" rot="10800000">
            <a:noAutofit/>
          </a:bodyPr>
          <a:p>
            <a:pPr algn="ctr"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дер"/>
          <p:cNvPicPr/>
          <p:nvPr/>
        </p:nvPicPr>
        <p:blipFill>
          <a:blip r:embed="rId1"/>
          <a:stretch/>
        </p:blipFill>
        <p:spPr>
          <a:xfrm>
            <a:off x="3059280" y="2133720"/>
            <a:ext cx="6378480" cy="4173480"/>
          </a:xfrm>
          <a:prstGeom prst="rect">
            <a:avLst/>
          </a:prstGeom>
          <a:ln w="0">
            <a:noFill/>
          </a:ln>
        </p:spPr>
      </p:pic>
      <p:sp>
        <p:nvSpPr>
          <p:cNvPr id="154" name="Прямоугольник 7"/>
          <p:cNvSpPr/>
          <p:nvPr/>
        </p:nvSpPr>
        <p:spPr>
          <a:xfrm>
            <a:off x="4214880" y="3021120"/>
            <a:ext cx="1938240" cy="306360"/>
          </a:xfrm>
          <a:prstGeom prst="rect">
            <a:avLst/>
          </a:prstGeom>
          <a:noFill/>
          <a:ln w="255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8"/>
          <p:cNvSpPr/>
          <p:nvPr/>
        </p:nvSpPr>
        <p:spPr>
          <a:xfrm>
            <a:off x="4113360" y="3581280"/>
            <a:ext cx="1734840" cy="255600"/>
          </a:xfrm>
          <a:prstGeom prst="rect">
            <a:avLst/>
          </a:prstGeom>
          <a:noFill/>
          <a:ln w="255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9"/>
          <p:cNvSpPr/>
          <p:nvPr/>
        </p:nvSpPr>
        <p:spPr>
          <a:xfrm>
            <a:off x="6408720" y="3276720"/>
            <a:ext cx="255600" cy="253800"/>
          </a:xfrm>
          <a:prstGeom prst="rect">
            <a:avLst/>
          </a:prstGeom>
          <a:noFill/>
          <a:ln w="255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10"/>
          <p:cNvSpPr/>
          <p:nvPr/>
        </p:nvSpPr>
        <p:spPr>
          <a:xfrm>
            <a:off x="5950080" y="3479760"/>
            <a:ext cx="357120" cy="255600"/>
          </a:xfrm>
          <a:prstGeom prst="rect">
            <a:avLst/>
          </a:prstGeom>
          <a:noFill/>
          <a:ln w="255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4643280" y="2421000"/>
            <a:ext cx="1225800" cy="434880"/>
          </a:xfrm>
          <a:prstGeom prst="wedgeEllipseCallout">
            <a:avLst>
              <a:gd name="adj1" fmla="val -45208"/>
              <a:gd name="adj2" fmla="val -101458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Водонапорная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скважин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219640" y="2852640"/>
            <a:ext cx="0" cy="5763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211640" y="3429000"/>
            <a:ext cx="10080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9640" y="3429000"/>
            <a:ext cx="64764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5867280" y="3284280"/>
            <a:ext cx="0" cy="1443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11640" y="3429000"/>
            <a:ext cx="0" cy="2872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16360" y="3429000"/>
            <a:ext cx="0" cy="216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4427640" y="3213000"/>
            <a:ext cx="0" cy="216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5076360" y="3213000"/>
            <a:ext cx="1429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292720" y="3429000"/>
            <a:ext cx="0" cy="216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3"/>
          <p:cNvSpPr/>
          <p:nvPr/>
        </p:nvSpPr>
        <p:spPr>
          <a:xfrm>
            <a:off x="395280" y="0"/>
            <a:ext cx="8477280" cy="1252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720" rIns="63720" tIns="31680" bIns="316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хема водоснабж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.  Муравьищ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рёзовского сельского пос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с. Муравьище"/>
          <p:cNvPicPr/>
          <p:nvPr/>
        </p:nvPicPr>
        <p:blipFill>
          <a:blip r:embed="rId1"/>
          <a:stretch/>
        </p:blipFill>
        <p:spPr>
          <a:xfrm>
            <a:off x="1407960" y="2408400"/>
            <a:ext cx="6429600" cy="4170240"/>
          </a:xfrm>
          <a:prstGeom prst="rect">
            <a:avLst/>
          </a:prstGeom>
          <a:ln w="0">
            <a:noFill/>
          </a:ln>
        </p:spPr>
      </p:pic>
      <p:sp>
        <p:nvSpPr>
          <p:cNvPr id="170" name="Oval 8"/>
          <p:cNvSpPr/>
          <p:nvPr/>
        </p:nvSpPr>
        <p:spPr>
          <a:xfrm>
            <a:off x="3652920" y="3786120"/>
            <a:ext cx="163440" cy="163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2"/>
          <p:cNvSpPr/>
          <p:nvPr/>
        </p:nvSpPr>
        <p:spPr>
          <a:xfrm>
            <a:off x="0" y="-166680"/>
            <a:ext cx="1303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15"/>
          <p:cNvSpPr/>
          <p:nvPr/>
        </p:nvSpPr>
        <p:spPr>
          <a:xfrm>
            <a:off x="4214880" y="3122640"/>
            <a:ext cx="407880" cy="204840"/>
          </a:xfrm>
          <a:prstGeom prst="rect">
            <a:avLst/>
          </a:prstGeom>
          <a:noFill/>
          <a:ln w="25560">
            <a:solidFill>
              <a:srgbClr val="00b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16"/>
          <p:cNvSpPr/>
          <p:nvPr/>
        </p:nvSpPr>
        <p:spPr>
          <a:xfrm>
            <a:off x="4776840" y="3122640"/>
            <a:ext cx="253800" cy="204840"/>
          </a:xfrm>
          <a:prstGeom prst="rect">
            <a:avLst/>
          </a:prstGeom>
          <a:noFill/>
          <a:ln w="25560">
            <a:solidFill>
              <a:srgbClr val="00b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17"/>
          <p:cNvSpPr/>
          <p:nvPr/>
        </p:nvSpPr>
        <p:spPr>
          <a:xfrm>
            <a:off x="2684520" y="3122640"/>
            <a:ext cx="1377720" cy="204840"/>
          </a:xfrm>
          <a:prstGeom prst="rect">
            <a:avLst/>
          </a:prstGeom>
          <a:noFill/>
          <a:ln w="255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18"/>
          <p:cNvSpPr/>
          <p:nvPr/>
        </p:nvSpPr>
        <p:spPr>
          <a:xfrm>
            <a:off x="5133960" y="3122640"/>
            <a:ext cx="509760" cy="154080"/>
          </a:xfrm>
          <a:prstGeom prst="rect">
            <a:avLst/>
          </a:prstGeom>
          <a:noFill/>
          <a:ln w="255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19"/>
          <p:cNvSpPr/>
          <p:nvPr/>
        </p:nvSpPr>
        <p:spPr>
          <a:xfrm>
            <a:off x="3092400" y="3633840"/>
            <a:ext cx="2755800" cy="203040"/>
          </a:xfrm>
          <a:prstGeom prst="rect">
            <a:avLst/>
          </a:prstGeom>
          <a:noFill/>
          <a:ln w="255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21"/>
          <p:cNvSpPr/>
          <p:nvPr/>
        </p:nvSpPr>
        <p:spPr>
          <a:xfrm>
            <a:off x="2378160" y="4143240"/>
            <a:ext cx="357120" cy="765360"/>
          </a:xfrm>
          <a:prstGeom prst="rect">
            <a:avLst/>
          </a:prstGeom>
          <a:noFill/>
          <a:ln w="255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9"/>
          <p:cNvSpPr/>
          <p:nvPr/>
        </p:nvSpPr>
        <p:spPr>
          <a:xfrm>
            <a:off x="1979640" y="2276640"/>
            <a:ext cx="1295280" cy="287280"/>
          </a:xfrm>
          <a:prstGeom prst="wedgeEllipseCallout">
            <a:avLst>
              <a:gd name="adj1" fmla="val 50736"/>
              <a:gd name="adj2" fmla="val 216296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. скважи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76720" y="3068640"/>
            <a:ext cx="0" cy="431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76720" y="3500280"/>
            <a:ext cx="23749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5651640" y="3213000"/>
            <a:ext cx="0" cy="287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508720" y="32130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5148360" y="3213000"/>
            <a:ext cx="0" cy="287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932360" y="3284280"/>
            <a:ext cx="0" cy="215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4500720" y="3213000"/>
            <a:ext cx="0" cy="287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851280" y="3284280"/>
            <a:ext cx="0" cy="215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3492360" y="3284280"/>
            <a:ext cx="0" cy="215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2842920" y="3284640"/>
            <a:ext cx="431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916360" y="321264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580000" y="3500280"/>
            <a:ext cx="0" cy="21600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076720" y="3500280"/>
            <a:ext cx="0" cy="1447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211640" y="3500280"/>
            <a:ext cx="0" cy="1447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780000" y="3500280"/>
            <a:ext cx="0" cy="21600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627280" y="3500280"/>
            <a:ext cx="64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627280" y="3500280"/>
            <a:ext cx="0" cy="122400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56" descr=""/>
          <p:cNvPicPr/>
          <p:nvPr/>
        </p:nvPicPr>
        <p:blipFill>
          <a:blip r:embed="rId1"/>
          <a:stretch/>
        </p:blipFill>
        <p:spPr>
          <a:xfrm>
            <a:off x="1816200" y="2152800"/>
            <a:ext cx="6953040" cy="419076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720" rIns="63720" tIns="31680" bIns="316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хема водоснабж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. Ладыгин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рёзовского сельского пос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1"/>
          <p:cNvSpPr/>
          <p:nvPr/>
        </p:nvSpPr>
        <p:spPr>
          <a:xfrm>
            <a:off x="4878360" y="1795320"/>
            <a:ext cx="652320" cy="4366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важина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3"/>
          <p:cNvSpPr/>
          <p:nvPr/>
        </p:nvSpPr>
        <p:spPr>
          <a:xfrm>
            <a:off x="0" y="0"/>
            <a:ext cx="9144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16"/>
          <p:cNvSpPr/>
          <p:nvPr/>
        </p:nvSpPr>
        <p:spPr>
          <a:xfrm>
            <a:off x="5286240" y="5113440"/>
            <a:ext cx="255600" cy="306360"/>
          </a:xfrm>
          <a:prstGeom prst="rect">
            <a:avLst/>
          </a:prstGeom>
          <a:noFill/>
          <a:ln w="25560">
            <a:solidFill>
              <a:srgbClr val="00b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17"/>
          <p:cNvSpPr/>
          <p:nvPr/>
        </p:nvSpPr>
        <p:spPr>
          <a:xfrm>
            <a:off x="5950080" y="5113440"/>
            <a:ext cx="306360" cy="306360"/>
          </a:xfrm>
          <a:prstGeom prst="rect">
            <a:avLst/>
          </a:prstGeom>
          <a:noFill/>
          <a:ln w="25560">
            <a:solidFill>
              <a:srgbClr val="00b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20"/>
          <p:cNvSpPr/>
          <p:nvPr/>
        </p:nvSpPr>
        <p:spPr>
          <a:xfrm>
            <a:off x="3551400" y="5113440"/>
            <a:ext cx="1684080" cy="306360"/>
          </a:xfrm>
          <a:prstGeom prst="rect">
            <a:avLst/>
          </a:prstGeom>
          <a:noFill/>
          <a:ln w="255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21"/>
          <p:cNvSpPr/>
          <p:nvPr/>
        </p:nvSpPr>
        <p:spPr>
          <a:xfrm>
            <a:off x="5541840" y="5113440"/>
            <a:ext cx="357480" cy="306360"/>
          </a:xfrm>
          <a:prstGeom prst="rect">
            <a:avLst/>
          </a:prstGeom>
          <a:noFill/>
          <a:ln w="255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22"/>
          <p:cNvSpPr/>
          <p:nvPr/>
        </p:nvSpPr>
        <p:spPr>
          <a:xfrm>
            <a:off x="3652920" y="3836880"/>
            <a:ext cx="2552760" cy="357120"/>
          </a:xfrm>
          <a:prstGeom prst="rect">
            <a:avLst/>
          </a:prstGeom>
          <a:noFill/>
          <a:ln w="255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23"/>
          <p:cNvSpPr/>
          <p:nvPr/>
        </p:nvSpPr>
        <p:spPr>
          <a:xfrm>
            <a:off x="3041640" y="3224160"/>
            <a:ext cx="3673440" cy="306360"/>
          </a:xfrm>
          <a:prstGeom prst="rect">
            <a:avLst/>
          </a:prstGeom>
          <a:noFill/>
          <a:ln w="255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24"/>
          <p:cNvSpPr/>
          <p:nvPr/>
        </p:nvSpPr>
        <p:spPr>
          <a:xfrm>
            <a:off x="2786040" y="3021120"/>
            <a:ext cx="204840" cy="458640"/>
          </a:xfrm>
          <a:prstGeom prst="rect">
            <a:avLst/>
          </a:prstGeom>
          <a:noFill/>
          <a:ln w="255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25"/>
          <p:cNvSpPr/>
          <p:nvPr/>
        </p:nvSpPr>
        <p:spPr>
          <a:xfrm>
            <a:off x="2224080" y="2816280"/>
            <a:ext cx="306360" cy="663480"/>
          </a:xfrm>
          <a:prstGeom prst="rect">
            <a:avLst/>
          </a:prstGeom>
          <a:noFill/>
          <a:ln w="255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26"/>
          <p:cNvSpPr/>
          <p:nvPr/>
        </p:nvSpPr>
        <p:spPr>
          <a:xfrm>
            <a:off x="3295800" y="3021120"/>
            <a:ext cx="1481040" cy="203040"/>
          </a:xfrm>
          <a:prstGeom prst="rect">
            <a:avLst/>
          </a:prstGeom>
          <a:noFill/>
          <a:ln w="255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27"/>
          <p:cNvSpPr/>
          <p:nvPr/>
        </p:nvSpPr>
        <p:spPr>
          <a:xfrm>
            <a:off x="3449520" y="2357280"/>
            <a:ext cx="866880" cy="357480"/>
          </a:xfrm>
          <a:prstGeom prst="rect">
            <a:avLst/>
          </a:prstGeom>
          <a:noFill/>
          <a:ln w="255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859280" y="242100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411280" y="2781360"/>
            <a:ext cx="2448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56000" y="278136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2484000" y="2997360"/>
            <a:ext cx="71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411280" y="3284640"/>
            <a:ext cx="144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059280" y="2781360"/>
            <a:ext cx="0" cy="863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276720" y="342864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3492360" y="342864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708360" y="3357360"/>
            <a:ext cx="0" cy="215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4067280" y="3357360"/>
            <a:ext cx="0" cy="215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4427640" y="342864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859280" y="3357360"/>
            <a:ext cx="0" cy="215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5219640" y="3357360"/>
            <a:ext cx="0" cy="215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651640" y="3357360"/>
            <a:ext cx="0" cy="215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6156360" y="3357360"/>
            <a:ext cx="0" cy="215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516720" y="342864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059280" y="3573360"/>
            <a:ext cx="3457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300720" y="3573360"/>
            <a:ext cx="0" cy="1511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564000" y="3789360"/>
            <a:ext cx="2665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3708000" y="501336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708360" y="378936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211640" y="378936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867280" y="501336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5579640" y="5013360"/>
            <a:ext cx="7164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76720" y="501336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788000" y="501336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284720" y="5157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708360" y="501336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211640" y="501336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067280" y="263664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084720" y="3789360"/>
            <a:ext cx="0" cy="1443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796000" y="3789360"/>
            <a:ext cx="0" cy="21600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435640" y="3789360"/>
            <a:ext cx="0" cy="21600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219640" y="3789360"/>
            <a:ext cx="0" cy="21600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4932360" y="378900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24360" y="378936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500720" y="3789360"/>
            <a:ext cx="0" cy="21600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3"/>
          <p:cNvSpPr/>
          <p:nvPr/>
        </p:nvSpPr>
        <p:spPr>
          <a:xfrm>
            <a:off x="0" y="1440"/>
            <a:ext cx="9123480" cy="1222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720" rIns="63720" tIns="31680" bIns="316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хема водоснабж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. Коптев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рёзовского сельского пос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4" descr="дер"/>
          <p:cNvPicPr/>
          <p:nvPr/>
        </p:nvPicPr>
        <p:blipFill>
          <a:blip r:embed="rId1"/>
          <a:stretch/>
        </p:blipFill>
        <p:spPr>
          <a:xfrm>
            <a:off x="1285920" y="2276640"/>
            <a:ext cx="7858080" cy="4286160"/>
          </a:xfrm>
          <a:prstGeom prst="rect">
            <a:avLst/>
          </a:prstGeom>
          <a:ln w="0">
            <a:noFill/>
          </a:ln>
        </p:spPr>
      </p:pic>
      <p:sp>
        <p:nvSpPr>
          <p:cNvPr id="249" name="Прямоугольник 6"/>
          <p:cNvSpPr/>
          <p:nvPr/>
        </p:nvSpPr>
        <p:spPr>
          <a:xfrm>
            <a:off x="2786040" y="3122640"/>
            <a:ext cx="1836720" cy="357120"/>
          </a:xfrm>
          <a:prstGeom prst="rect">
            <a:avLst/>
          </a:prstGeom>
          <a:noFill/>
          <a:ln w="255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7"/>
          <p:cNvSpPr/>
          <p:nvPr/>
        </p:nvSpPr>
        <p:spPr>
          <a:xfrm>
            <a:off x="2836800" y="3684600"/>
            <a:ext cx="1940040" cy="306360"/>
          </a:xfrm>
          <a:prstGeom prst="rect">
            <a:avLst/>
          </a:prstGeom>
          <a:noFill/>
          <a:ln w="255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9"/>
          <p:cNvSpPr/>
          <p:nvPr/>
        </p:nvSpPr>
        <p:spPr>
          <a:xfrm>
            <a:off x="4211640" y="2133720"/>
            <a:ext cx="1295280" cy="287280"/>
          </a:xfrm>
          <a:prstGeom prst="wedgeEllipseCallout">
            <a:avLst>
              <a:gd name="adj1" fmla="val -7476"/>
              <a:gd name="adj2" fmla="val 341712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. скважи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788000" y="3213000"/>
            <a:ext cx="0" cy="289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6360" y="3500280"/>
            <a:ext cx="1871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500720" y="3500280"/>
            <a:ext cx="0" cy="289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916360" y="3500280"/>
            <a:ext cx="0" cy="289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5T17:08:53Z</dcterms:created>
  <dc:creator>Admin</dc:creator>
  <dc:description/>
  <dc:language>en-US</dc:language>
  <cp:lastModifiedBy>Admin</cp:lastModifiedBy>
  <dcterms:modified xsi:type="dcterms:W3CDTF">2005-12-31T21:13:57Z</dcterms:modified>
  <cp:revision>6</cp:revision>
  <dc:subject/>
  <dc:title>Слайд 1</dc:title>
</cp:coreProperties>
</file>